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18B-B521-45DD-8650-FD9E6986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CD8-6FE7-49DB-9B88-8811E2AF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C45-E63D-48E8-A89D-CBCEA34A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754-88CF-4BC2-A7E0-830955D3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8EB-9D40-49FD-947F-DEDA027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4D-4A97-48C0-AFBC-35EFF25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104-7D78-4859-B1E7-7D66349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BCE-B9AC-4E71-8C92-0FF253A6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6FD-768B-46F5-88B8-2120365C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9D0-A92E-4A39-A49F-71A8F39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25F-81EF-4EF3-A33D-8A1B7FF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D5C-641D-414F-92ED-D651819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C64-A87E-4742-848D-537E2266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hyperlink" Target="http://www.mass.gov/envir/forest/images/multiLayerForest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   </a:t>
            </a: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Dans la </a:t>
            </a:r>
            <a:br>
              <a:rPr sz="3600"/>
            </a:b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 For</a:t>
            </a:r>
            <a:r>
              <a:rPr b="1" lang="en-US" sz="3600" spc="-1" strike="noStrike">
                <a:solidFill>
                  <a:srgbClr val="33cc33"/>
                </a:solidFill>
                <a:latin typeface="바탕"/>
                <a:ea typeface="바탕"/>
              </a:rPr>
              <a:t>ê</a:t>
            </a: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t Lointaine</a:t>
            </a:r>
            <a:r>
              <a:rPr b="0" lang="en-GB" sz="36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Dans la fo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ê</a:t>
            </a: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t lointa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On entend le couc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Du haut de son 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hê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Il répond au hib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oucou hibou, ) 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oucou hibou,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On entend le couc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owl2"/>
          <p:cNvPicPr/>
          <p:nvPr/>
        </p:nvPicPr>
        <p:blipFill>
          <a:blip r:embed="rId1"/>
          <a:stretch/>
        </p:blipFill>
        <p:spPr>
          <a:xfrm>
            <a:off x="7308720" y="1557360"/>
            <a:ext cx="150660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ommon%20cuckoo"/>
          <p:cNvPicPr/>
          <p:nvPr/>
        </p:nvPicPr>
        <p:blipFill>
          <a:blip r:embed="rId2"/>
          <a:stretch/>
        </p:blipFill>
        <p:spPr>
          <a:xfrm>
            <a:off x="324000" y="0"/>
            <a:ext cx="3744720" cy="22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multiLayerFor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14 Dans la forêt lointaine.wav" descr=""/>
          <p:cNvPicPr/>
          <p:nvPr/>
        </p:nvPicPr>
        <p:blipFill>
          <a:blip r:embed="rId5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995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20:07:11Z</dcterms:created>
  <dc:creator>Staffjk</dc:creator>
  <dc:description/>
  <dc:language>en-US</dc:language>
  <cp:lastModifiedBy>Barbara</cp:lastModifiedBy>
  <dcterms:modified xsi:type="dcterms:W3CDTF">2010-02-21T00:05:49Z</dcterms:modified>
  <cp:revision>4</cp:revision>
  <dc:subject/>
  <dc:title>Dans la Foret Lointaine</dc:title>
</cp:coreProperties>
</file>